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638-800A-4EED-9091-ECD44F98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579-952B-4BA3-A28F-3E9A1A37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3F3-BC50-40B0-AE2F-D965D242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F92-9F06-4F23-962A-6AA69E9F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186A-2537-4D86-BCB0-A07FFBFD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EAF7-5366-4927-98F6-9279A6AB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09BF-3AE8-4902-9C3D-F4EFDABA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C1BF-AF0B-433E-97BC-51B63BA5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3F72-4104-4065-A373-DB618FA8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00E4-B91C-4B41-ADE3-C14A0E3D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2C82-2FE0-4BDB-8A53-437F275F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903-6850-49BC-B366-70858B57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D229-3AC6-4DED-8AB5-E0EBA117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FC24-1771-43C6-943D-FDE566E6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EEAD-0611-4E03-A8C2-0A82D063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AE65-DA4B-43DD-A93C-DC37B7BE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510F-28AF-4D2A-8361-81C5A47F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1A2-CE8B-4839-8A28-4C502843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4E8-4D87-4260-B1B4-77480F7B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74E-C1DC-47B9-AFC2-FC407A63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A5D-C39D-4D0D-8C3A-40722BCC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589-9FB9-4C34-8EB2-59FC5C0D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6E6-F316-404C-BD08-8AE80C5C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481-E25E-493F-BC33-981BE910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ABAE-7471-40D3-9FDC-1E9C61031E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24680" y="380880"/>
            <a:ext cx="895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006C-3A80-420D-A473-B18ADD21B5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38555062&amp;id=92843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eaveyourimpression.com/" TargetMode="External"/><Relationship Id="rId2" Type="http://schemas.openxmlformats.org/officeDocument/2006/relationships/hyperlink" Target="http://www.leaveyourimpression.com/dynamic.asp?id=pledge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7171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cision Models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gacy Gift Strateg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3917880"/>
            <a:ext cx="74678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pril 28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isa Boyd • Ryan Nash • Henry Sham • Amy Ts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1498680"/>
            <a:ext cx="1273320" cy="1733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05920" y="6400800"/>
            <a:ext cx="533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D5BF-26F6-44F0-8EA7-FDA11D2BB459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Analysis 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ound the most “typical” person in each cluster and selected them to be a member of the Legacy Gift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erson would have the most in common with everyone in the 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f the clusters (and its cluster center) has its own unique defining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C6C-B681-4462-9B7B-6AABAC542B09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Descrip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uster 1: Generally Satisfied Bank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B / S&amp;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a club offic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es to Beer Bl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nds many hour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 scho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B47-8C28-418A-833A-B978E129BA3B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Descrip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uster 2: GMA Cheerlead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tends a lot of school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es on vacatio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th Stern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yc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ves Stern!!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19680" y="266688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7DC-3D9D-459B-AED0-A01FB855C9A9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Descrip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uster 3: Future Media Mogu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nds a lot of time a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mited participatio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club / school ev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job through OC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448000" cy="32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39B-72F4-4FDC-BAE6-93F99734040D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te Carlo Sim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rmulation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 10 simulations, one per clus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normal Distribution (min $0 don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: Cluster center’s do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d Deviation: Survey data’s cluster std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ec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expected donations of each c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ation per student in each clu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149-9FCE-48C9-8D95-1878C1F644B0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te Carlo Sim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1: Generally Satisfied Bank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luster G$B has 19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re is a 90% probability that G$B will pledge at least $88.4k or $4.6k per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3176640"/>
          <a:ext cx="4572000" cy="284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76640"/>
                    <a:ext cx="457200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5334120" y="4419720"/>
            <a:ext cx="3429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an Cluster Donation = $95,03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Dev = $5,3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AFC-22B0-4DBA-BAFF-D63E6E8ABB92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90% confidence that the minimum donation will be at least 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$220,672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ing sample data of 200 stud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n expected donation of $279,5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ies an average donation of $1400 per stu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ing simple math, this implies a total of approximately $560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more properly estimate the entire class, run cluster analysis of all 400 stud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18D-E76F-4ACB-920B-CDFD56620319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mend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 cluster centers to be part of Legacy Gift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 them to solicit donations from all the other members in their clu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information collected on the clusters to help them develop tailored strategies for approaching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lusters with low expected do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argeted messa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te them to special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additional incen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227-E046-441B-96A3-27E915AD7A1B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all the MBA2’s who have not yet pledged to the Class of 2008 Legacy Gift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E NEED YOUR DONATION!!!!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www.leaveyourimpression.com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3809880"/>
            <a:ext cx="3676680" cy="11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D1D-3582-40EC-B912-0C94AABAEE5F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18860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2200" y="63237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rce: Jurani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3D5-D610-40C2-871F-041A363C257D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 and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e Carlo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 and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F63-807E-4883-95CB-E8DBCDABC2D0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year, the graduating MBA class donates to the Class Legacy G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weeks prior to graduation, a committee of student volunteers solicits donations from th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ommittee volunteer is randomly assigned students to solicit based solely on common Block memb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40D-7318-4E41-AA9E-AF0AC01FF0DF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goal is to improve the strategy for getting donations from MBA2’s for the Class Legacy Gift and to estimate the likely size of the Legacy Gi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believe there is a better way to select members of the Legacy Gift committee and assign which students each committee member solic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student is solicited by someone with whom they have a lot in common, they are more likely to don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student is solicited through a more tailored approach, they are likely to donate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model will help Stern identify Legacy Gift committee members and will help them anticipate the expected donation of the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568-783A-4FCA-9F88-653B4AF5775B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r Approa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 a survey among all MBA2s and collect key available data on each stu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data to group students into clu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most “typical” student in each cluster and identify key characteristics of each c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Monte Carlo Simulation for each cluster to determine each cluster’s expected do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strategy for soliciting donations from each c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243-7052-4BD0-93C6-7F2C6459901B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vey and Data Colle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ach student in the class, collect the following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311560"/>
            <a:ext cx="3504960" cy="37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Available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fession/Indu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ub Offi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Club Membersh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Beer Blasts Atten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School/Club Events Atten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rting Sal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ital Stat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Loans Outsta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ob through OCD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NY after graduation?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311560"/>
            <a:ext cx="365760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Data Collected Through Surv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t / Mortg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urs Spent at School (per da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ys Vacationing with Stern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y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hool Satisf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ected Do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624852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te: For our model, we created dummy data for 200 students. The questions / variables used can vary from year to year, e.g., depending on the legacy gift select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76D-CC31-4672-BF90-4FDFDF44BF3E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Analysis Overvie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luster analysis to group all the students into clusters, based on their similarities in the data coll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our model, we clustered 200 students into 10 clusters, which resulted in cluster sizes between 11 and 32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ould expect that about 15-20 clusters would be necessary for all 400 MBA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C23-D69D-4AA5-A41F-73B6EC32825F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Analysis Form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ize data with a Z-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cluster analysis using Evolutionary So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that represent the 10 cluster ce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izing the total sum of distance between the cluster center and cluster members (i.e., maximize inter-cluster similarit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a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body must be assigned to a clu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cluster must have a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832-9CD1-42C1-8AC6-E88A21585412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uster Analysis 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lver identifies Cluster Center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 minimizing total distances of attrib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4419720"/>
            <a:ext cx="5854680" cy="1584360"/>
            <a:chOff x="762120" y="4419720"/>
            <a:chExt cx="5854680" cy="158436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762120" y="4419720"/>
              <a:ext cx="364500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rcRect l="11976" t="0" r="0" b="0"/>
            <a:stretch/>
          </p:blipFill>
          <p:spPr>
            <a:xfrm>
              <a:off x="4398840" y="4419720"/>
              <a:ext cx="2217960" cy="15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2120" y="2209680"/>
            <a:ext cx="7391160" cy="181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rcRect l="42071" t="0" r="0" b="0"/>
          <a:stretch/>
        </p:blipFill>
        <p:spPr>
          <a:xfrm>
            <a:off x="7010280" y="4191120"/>
            <a:ext cx="1379520" cy="1695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0800000">
            <a:off x="4191120" y="6324120"/>
            <a:ext cx="3124080" cy="304920"/>
          </a:xfrm>
          <a:prstGeom prst="wedgeRoundRectCallout">
            <a:avLst>
              <a:gd name="adj1" fmla="val -47361"/>
              <a:gd name="adj2" fmla="val 255726"/>
              <a:gd name="adj3" fmla="val 1666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mm, creamy cluster ce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8FF-BD29-4831-A9F5-EF7D1BEE0B2C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8:04:14Z</dcterms:created>
  <dc:creator>Melisa</dc:creator>
  <dc:description/>
  <dc:language>en-US</dc:language>
  <cp:lastModifiedBy>AT</cp:lastModifiedBy>
  <dcterms:modified xsi:type="dcterms:W3CDTF">2008-04-27T19:24:20Z</dcterms:modified>
  <cp:revision>90</cp:revision>
  <dc:subject/>
  <dc:title>Slide 1</dc:title>
</cp:coreProperties>
</file>